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5A32-46F4-42E3-BA30-5E00FD12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BD64-B676-4FE0-9AEF-350F9F97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4331-0E2C-4DE1-BBD3-AD084E7F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49C6-FCF8-43CE-8620-50A126CD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2EC5-9DBC-473C-9008-356E0F24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9DCE-C035-4A3A-9D10-4185D315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E0CA-4523-49E6-ABEC-868E590F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C1FC-3B89-4B18-9FC9-969C751C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2357-6F03-4D71-9FAD-7C577850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CD54-E05E-4E2F-978F-4386B34C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7C5B-FE6E-46EF-88F4-E14E1AF0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3D1A-4EF6-48D2-B1BF-F15AE45F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7652-0CAB-4863-8457-8E0E4C54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8481-0749-40B1-9641-3F669F03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0AF7-4F03-4C4B-AB95-1E972FAC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92A8-4E3A-41C5-9A18-81563DB0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304E-3BE4-46F9-83B4-D2E75976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8A54-1640-420A-A445-EF2AC152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044C-5C33-4CBB-B801-1A6AF9A6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2398-8CA1-44CD-A834-15994997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5FCA-6969-4A03-811F-F0500DA4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43B4-9846-42EC-9DE2-E60E48CB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6597-7F8E-4003-A415-0EED5EA2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46F1-F1C6-45FE-BFEB-6DC9052B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F739-FAF5-486C-B1FB-9A3FB7EA626B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FFCE-CD98-4C21-89B9-1B6652B416F0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Hello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am a Powerpoint fi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mpatibil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 Internet Explorer this may have just played within your web browse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wise it would have downloaded to your computer and been launched in Powerpoint (or Staroffic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2T12:53:31Z</dcterms:created>
  <dc:creator>Martin</dc:creator>
  <dc:description/>
  <dc:language>en-US</dc:language>
  <cp:lastModifiedBy>Martin</cp:lastModifiedBy>
  <dcterms:modified xsi:type="dcterms:W3CDTF">2004-05-22T13:04:03Z</dcterms:modified>
  <cp:revision>5</cp:revision>
  <dc:subject/>
  <dc:title>Hello!</dc:title>
</cp:coreProperties>
</file>